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B4B2-5610-4530-B4BC-49312689F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915F-0BA3-4B39-80BD-A9BFA3013ACA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89D1-87A8-4430-8CB7-4023D5050E9A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gs, or Web logs, are like online journals; MySpace/Facebook are the most popular blogging platfor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e a secure/private environment for educational journaling with peer feed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5158-0C0D-45B1-AC69-28E3F6672A27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4537-E754-4B1F-8199-5D07634D1AFD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662-CBF8-40B1-A729-42E363A8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E7B0-84B7-41DD-A438-58146D0C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1E39B-0C47-42E8-82A8-43F34078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E6ED6-25DE-43DC-8457-2D7FAE02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03354-6DF2-4BC9-8CD1-D79B4309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A7C4B-D228-42D3-AB57-9F8D5B1F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ED2C2-8BEF-4CDD-A965-24D99A3D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A7239-0BDA-486A-8BF7-6D5E2BA1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BEDCB-8BC7-430D-8745-EFE48304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AE093-0E99-489E-9524-A5E90D3E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1B915-EB81-4CCA-9075-3C417D2F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F1C74-7593-4FE4-BAA2-394A9E07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EF3-2059-4B51-852E-C2F9D3A9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9B786-F633-49BE-B087-0474576C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75775-4317-4440-9550-4EBBD90C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81E9C-3D12-46D2-AF08-EE7945BF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B206E-6606-4FBD-8591-60489FA0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3EBD2-37BF-4F39-8DE0-E9E6E025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7C3CC-BBA3-47D3-8D3B-BC6A1AD0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6967A-91CF-4FA3-8EBF-7EEB28AB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F91CD-F544-42B1-8B51-3D10EDB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4DB9B-9F9D-4001-BD6C-4BFACB06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4FA11-D238-49B0-AFA6-C44070B8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7E0-CF6D-4986-AE0A-39CF6194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1E732-7287-4360-9F0B-F9976322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F1BAE-3F37-463B-9DF8-54942B01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E63CC-B323-4CDC-B6D0-7AA95B5B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1DB9A-1F1C-47EB-9E1F-EB6A665F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E621D-0EB2-4351-B293-3FEEDCD7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9751F-127D-4FB4-8603-621A032D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91882-1A3E-423E-9C83-CBFC4C7B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2767B-D4A2-4598-AED4-EC58745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DAFA2-B78B-4A94-8216-2D94F80C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0BAA2-5BB8-4D75-9521-391BF7FC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B305-1D45-44E5-9C6A-F84F143D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A3766-2F62-4A85-86FF-DA27550A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4D40D-D706-434B-B44A-62C2976C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C07B9-69CF-44CC-8C7A-BB063052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9D8F1-E2EA-4060-98E2-AB2E798B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4C0A5-D2F1-4A2F-841A-420B0D1E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85F43-DCEC-4B23-AC8E-500A4598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F3840-1F98-4DE2-BF13-DF66CD96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A5206-1169-4B0D-8387-2EEDA81F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F96E1-524E-42DF-9CE5-7A1DC196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C7AF8-029A-4C22-92B8-6776CDF3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C325-30DA-4A84-871D-AEDC9F65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6FF71-2A4B-4A24-B678-33CE21EC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7D6E3-14FE-4CCA-934A-A93D8DFD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3E638-2BBE-4A77-A86A-8DE66343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9EF5F-4C77-4E45-9A3D-01DDFB20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1B2D4-AEA3-4A17-98FA-57C068C5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0D01-134A-47FD-997F-D4B0BED8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2CF0-4673-4D2B-BFFB-1279A4DA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E965-2DF1-4B5C-9E8A-CB48ED7B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9424-3739-4AAB-BF9B-94090986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49D1-2AEB-4655-8678-3D7011EB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AF8-0F24-4664-BFE7-B7F12F69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F053-0E44-4FCD-98F2-E9368C4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E4B0-4101-4700-98C4-752FEEF7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0DC4-9E1B-429D-B511-2425BFF7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FFE4-568A-4889-A07D-03E8D7B7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DF64-B871-41C7-8101-01130832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C677-51E3-44D9-BD74-38253B3C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151D-55F2-4B91-A686-D88B3FFF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18389-749F-4F24-9FEA-FFE87598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E84C-ABDB-4E96-A0D9-32CAD30D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3233F-075C-4AC3-8FC9-53AA6E09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F94-7E69-401D-9560-BA1A1A53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19AB-13E7-4232-B67D-53F2AB65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D205-C6F9-4C98-BA18-A74FE0DF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A799-8F13-4FE9-B150-FCF3BF06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710E-4CEB-45B4-A17F-34140890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2FDF-7EB6-4B53-A346-20236E69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C9C0-9A27-4111-A283-515D67DE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E177-8E5C-424A-99C7-65524C14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35EC0-E2D4-46E2-AB8C-F7B138A0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725A-9F2B-4AA9-9E86-33291DC5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64A5-7FE0-41F9-BF25-77EDBC74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18F-91FF-4D29-926E-BD19D899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AF17-5944-4DB5-9008-5E50F4A0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C0A21-7572-4119-A783-412C1B50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7FC4-D623-4498-AFEC-661F102B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22BD8-55A2-4E26-A774-B55EA8BA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16A15-10C1-4BA8-838E-076D020E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8D70-FEED-4818-837E-137E1012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F9D6B-D860-40D5-B664-8E368ECF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C6FE4-58D5-4F4C-B515-214A594F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1688-409E-4FA8-A876-C015F89D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4D6C9-2DAB-4F4C-992A-E9B819AD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280-1355-4192-94F3-4AD2ECDA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78337-4BC7-4CC0-8C4D-65BC24DF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6C096-A349-41DD-91B1-067D0C21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2986B-5A02-4907-85D6-B088EB21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AA76-46AD-4FD3-870D-2869BB9B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5412-FE7A-4A47-A43F-16165EE3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97C15-91AA-453F-9D0E-57D4A15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5102B-1D57-4E0A-B685-9B0D7CA5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9B0A0-82F9-4D76-A28B-B1729030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023BB-5455-49C3-A47C-F233F7EE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49372-DDB4-48F5-B367-48463311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CBC-B31D-4CB4-976E-0720577F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BE7F9-CDD0-495C-B3A9-A0C7FC03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5443-586C-4602-8D94-259BAB8D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C9876-A206-4C67-A6F7-7EBF5627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11C08-0879-44B4-A612-F4C1153E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00AE4-3A15-4B4C-B2C8-06E741D3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1CD61-D9B2-40ED-91A3-C03CBB2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5BA25-3955-4C2F-9454-B73FA662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FEC37-5F93-49C0-9398-D1AAB011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6BF16-488E-4C0B-9127-16B06FE8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88AC6-3F45-4942-AE9D-69C4286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562-F0BA-44A3-BA4E-E95D0FB3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B3B72-BD95-4619-80C6-1EF8B37A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D65D5-5254-4FA8-A726-F8302D75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BAF53-DC6F-4FCA-A0A0-FD34B12A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06DC6-099C-48E6-9674-CDB8D5EC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2D3AB-6EC4-4391-AD2E-8D17E8D8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BC7BD-9D98-446F-BB56-1F3D0ADC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B88DC-F840-43DE-AA2A-E242C2D7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7F94A-9116-4BCE-B133-7F6BE056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ADAC-A15F-47DB-BF6B-F28E2D81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8A194-89F2-498C-B232-83E491B8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A5C-C4B7-45FD-8D8F-1775B11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6099F-B23A-4427-A389-49BB67E0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FBD4A-91A4-4306-87DB-AA170950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1695C-A28E-4DF9-9285-E8995A9E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11823-AFDD-48B3-B3B4-FE0F43A8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F64A-4B68-475E-A188-00F43919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59C02-18E0-4FDF-ACAD-DBE2C9D8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6C276-1AC7-4FBA-AFD7-1EBE5DB3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5E18C-5D83-48C2-8A03-F1DF7EC5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7BE2D-2994-402C-B3F5-93FCE619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3EE91-7CD2-4CF9-B81E-A276A56A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194-AD52-4284-A88B-8A24D835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FEBE2-035E-44C5-BF2D-A1476D91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8F3B6-7D7E-4642-BE45-8ED0F317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10425-286F-4E8A-BC81-1819E35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DE61B-CE36-4AB3-971E-89CD17C8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8B474-D51C-4A3B-B982-958F02D0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41B44-CE29-4573-927F-F82DD304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8506B-23F6-4760-8032-8698392E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C55D4-2B96-466C-83B1-A3944C1E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AD0D3-E6C5-4B5B-8422-A5194509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34E95-24DF-418C-A18F-EB146511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CBA5-77F8-4ECB-AF03-9B9DF57CB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6D04-F2AF-44D7-8726-C886061EB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793-407A-4CD1-84E3-9E081EA29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7DE7-19D1-4973-9C6A-62223A61D637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0C45-6149-4554-B76F-366845873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EEC7-D0B0-4BD3-86DC-0E38B6781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A2A5-C4DB-4832-9FA9-F5E0AF9EF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1473-7B2B-4AF4-ACBE-298F429D7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BC48-8865-42DD-9A62-7A238B8A9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9F41-A0C6-41F4-97D5-5B5E9A7EE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BE49-8006-4E32-8526-4254394F5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6DB2-9273-4D93-8CE7-0978DBAE1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verso.co.nz/mw/index.php?title=The_Read-Write_Matrix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hat is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920" y="497160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Tahoma"/>
              </a:rPr>
              <a:t>Blogging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5391360" cy="3884400"/>
          </a:xfrm>
          <a:prstGeom prst="rect">
            <a:avLst/>
          </a:prstGeom>
          <a:ln w="0">
            <a:noFill/>
          </a:ln>
        </p:spPr>
      </p:pic>
      <p:pic>
        <p:nvPicPr>
          <p:cNvPr id="502" name="msjWeb2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log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b logs are chronological online personal journals with reflections, comments and often links to other Web sites produced by the writer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thers may subscribe to a person's blog, which allows them to read it and write comments in response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mages, video and audio can be embedded as wel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log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1983-1990 – Newsgroups, Pre-HTTP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1994: First official Blo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term "weblog" was coined in 1997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short form, "blog“, was coined in 1999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y 2001, blogging was becoming common-pla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log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word blog quickly adopted as both a noun and verb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o blog: meaning "to edit one's weblog or to post to one's weblog"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Joe 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blogged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about his vacation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e was very happy with his 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blog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The read-write matrix of Web 2.0 tools for learn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2476440" y="1852560"/>
            <a:ext cx="5524560" cy="41436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4"/>
          <p:cNvSpPr/>
          <p:nvPr/>
        </p:nvSpPr>
        <p:spPr>
          <a:xfrm>
            <a:off x="2133720" y="60958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7b89"/>
                </a:solidFill>
                <a:uFillTx/>
                <a:latin typeface="Times New Roman"/>
                <a:hlinkClick r:id="rId2"/>
              </a:rPr>
              <a:t>http://www.verso.co.nz/mw/index.php?title=The_Read-Write_Matrix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56:04Z</dcterms:created>
  <dc:creator>Paul</dc:creator>
  <dc:description/>
  <cp:keywords/>
  <dc:language>en-US</dc:language>
  <cp:lastModifiedBy>MSJ</cp:lastModifiedBy>
  <dcterms:modified xsi:type="dcterms:W3CDTF">2009-02-09T17:46:26Z</dcterms:modified>
  <cp:revision>78</cp:revision>
  <dc:subject/>
  <dc:title>ED 670 Bl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